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7.png" ContentType="image/png"/>
  <Override PartName="/ppt/media/image33.jpeg" ContentType="image/jpeg"/>
  <Override PartName="/ppt/media/image34.gif" ContentType="image/gif"/>
  <Override PartName="/ppt/media/image24.png" ContentType="image/png"/>
  <Override PartName="/ppt/media/image21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47.png" ContentType="image/png"/>
  <Override PartName="/ppt/media/image23.jpeg" ContentType="image/jpeg"/>
  <Override PartName="/ppt/media/image2.jpeg" ContentType="image/jpeg"/>
  <Override PartName="/ppt/media/image20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44.jpeg" ContentType="image/jpeg"/>
  <Override PartName="/ppt/media/image45.jpeg" ContentType="image/jpeg"/>
  <Override PartName="/ppt/media/image50.jpeg" ContentType="image/jpeg"/>
  <Override PartName="/ppt/media/image12.jpeg" ContentType="image/jpeg"/>
  <Override PartName="/ppt/media/image46.jpeg" ContentType="image/jpeg"/>
  <Override PartName="/ppt/media/image51.jpeg" ContentType="image/jpeg"/>
  <Override PartName="/ppt/media/image40.jpeg" ContentType="image/jpeg"/>
  <Override PartName="/ppt/media/image13.jpeg" ContentType="image/jpeg"/>
  <Override PartName="/ppt/media/image57.jpeg" ContentType="image/jpeg"/>
  <Override PartName="/ppt/media/image43.png" ContentType="image/png"/>
  <Override PartName="/ppt/media/image53.jpeg" ContentType="image/jpeg"/>
  <Override PartName="/ppt/media/image52.jpeg" ContentType="image/jpeg"/>
  <Override PartName="/ppt/media/image48.jpeg" ContentType="image/jpeg"/>
  <Override PartName="/ppt/media/image37.png" ContentType="image/png"/>
  <Override PartName="/ppt/media/image49.jpeg" ContentType="image/jpeg"/>
  <Override PartName="/ppt/media/image54.jpeg" ContentType="image/jpeg"/>
  <Override PartName="/ppt/media/image55.jpeg" ContentType="image/jpeg"/>
  <Override PartName="/ppt/media/image42.png" ContentType="image/png"/>
  <Override PartName="/ppt/media/image36.png" ContentType="image/png"/>
  <Override PartName="/ppt/media/image35.png" ContentType="image/png"/>
  <Override PartName="/ppt/media/image32.png" ContentType="image/png"/>
  <Override PartName="/ppt/media/image31.png" ContentType="image/png"/>
  <Override PartName="/ppt/media/image30.png" ContentType="image/png"/>
  <Override PartName="/ppt/media/image39.jpeg" ContentType="image/jpeg"/>
  <Override PartName="/ppt/media/image8.jpeg" ContentType="image/jpeg"/>
  <Override PartName="/ppt/media/image9.jpeg" ContentType="image/jpeg"/>
  <Override PartName="/ppt/media/image38.jpeg" ContentType="image/jpeg"/>
  <Override PartName="/ppt/media/image28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1365-F573-4077-9D5C-894CECFB3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2B2F-CFDD-4612-ADD1-6FC425F2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9ED8-3E40-4F89-BF30-A4B9E4676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8F60-7FAE-4D1F-802A-FD2ADA225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53992-F63C-4C5B-BE0E-CFFD47C95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7FA2-2718-458C-BC72-67695514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092A-0534-4664-84A3-3A366F85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C58C-CCFD-4CAF-94A5-7DAB7208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8147-5025-4B9C-BC22-4C62FC3A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269D-C9FB-4EC9-9DBB-5EF59E11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AC58-0E11-47CE-8D0E-F845DC37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910F-CE37-4604-82C6-52329409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8E90-3195-4602-B0AC-8953B4A6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C2C9-B321-4C67-B53E-AC972B45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9984-588E-4CE1-BF99-B315690C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A1F0-7D04-4B0E-84D6-DC1E9A914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21CA-B9E5-478D-B55B-E9F4A88BF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E04E-E9D9-4B07-B8DD-594C35D0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05D3-CB3A-49DD-8952-CE774173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4693-2469-446A-A5B4-EE7B8D73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7DC6-3D0F-4E0A-A34E-2372593B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821B-E03C-4496-BC37-970EE704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F07B-3AD8-45E0-BCE0-26BA7A5A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97E0-E77A-46C3-B23C-424FE45F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29C6-5B16-47EE-AF38-A786DB9A18A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5002-7027-468A-BF6E-CA7CBC44805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scilla.ru/images/vykh.jpg&amp;imgrefurl=http://www.scilla.ru/works/raznoe/fasad06.html&amp;usg=__f1e8EXGP0rUgBarMPXeZLDSTYCI=&amp;h=376&amp;w=580&amp;sz=65&amp;hl=ru&amp;start=9&amp;tbnid=XYUFMXWZz_nj1M:&amp;tbnh=87&amp;tbnw=134&amp;prev=/images%3Fq%3D%25D0%25B2%25D1%258B%25D1%2585%25D1%2583%25D1%2585%25D0%25BE%25D0%25BB%25D1%258C%26hl%3Dru%26sa%3DG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jpeg"/><Relationship Id="rId3" Type="http://schemas.openxmlformats.org/officeDocument/2006/relationships/image" Target="../media/image11.gif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google.com/imgres?imgurl=http://www.rustrana.ru/articles/18790/3.jpg&amp;imgrefurl=http://www.liveinternet.ru/users/flamewalker/post73424794/&amp;usg=__wxLqoinFKDFI6DVG8Awbh7lEPfA=&amp;h=290&amp;w=500&amp;sz=23&amp;hl=ru&amp;start=4&amp;tbnid=RiOwWs5mxUP8XM:&amp;tbnh=75&amp;tbnw=130&amp;prev=/images%3Fq%3D%25D0%25B2%25D1%258B%25D1%2585%25D1%2583%25D1%2585%25D0%25BE%25D0%25BB%25D1%258C%26hl%3Dru%26sa%3DG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gif"/><Relationship Id="rId5" Type="http://schemas.openxmlformats.org/officeDocument/2006/relationships/image" Target="../media/image29.gif"/><Relationship Id="rId6" Type="http://schemas.openxmlformats.org/officeDocument/2006/relationships/image" Target="../media/image29.gif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jpeg"/><Relationship Id="rId1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7.png"/><Relationship Id="rId8" Type="http://schemas.openxmlformats.org/officeDocument/2006/relationships/image" Target="../media/image38.jpeg"/><Relationship Id="rId9" Type="http://schemas.openxmlformats.org/officeDocument/2006/relationships/image" Target="../media/image39.jpeg"/><Relationship Id="rId10" Type="http://schemas.openxmlformats.org/officeDocument/2006/relationships/image" Target="../media/image40.jpeg"/><Relationship Id="rId11" Type="http://schemas.openxmlformats.org/officeDocument/2006/relationships/image" Target="../media/image41.jpeg"/><Relationship Id="rId12" Type="http://schemas.openxmlformats.org/officeDocument/2006/relationships/image" Target="../media/image42.png"/><Relationship Id="rId13" Type="http://schemas.openxmlformats.org/officeDocument/2006/relationships/image" Target="../media/image43.png"/><Relationship Id="rId1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static.oper.ru/data/gallery/l1048752485.jpg&amp;imgrefurl=http://oper.ru/gallery/view.php%3Ft%3D1048752485&amp;usg=__jnqUle9peb_4buCFHF2xEf4CGJ0=&amp;h=463&amp;w=697&amp;sz=85&amp;hl=ru&amp;start=5&amp;tbnid=sttXRtQxVrdmGM:&amp;tbnh=92&amp;tbnw=139&amp;prev=/images%3Fq%3D%25D0%25B2%25D1%258B%25D1%2585%25D1%2583%25D1%2585%25D0%25BE%25D0%25BB%25D1%258C%26hl%3Dru%26sa%3DG" TargetMode="External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62;&#1054;&#1044;&#1055;%20&#1064;&#1082;&#1086;&#1083;&#1100;&#1085;&#1099;&#1081;%20&#1091;&#1088;&#1086;&#1082;%20&#1086;%20&#1088;&#1091;&#1089;&#1089;&#1082;&#1086;&#1081;%20&#1074;&#1099;&#1093;&#1091;&#1093;&#1086;&#1083;&#1077;&amp;spsite=revelation.clan.su&amp;img_url=revelation.clan.su%2F_fr%2F0%2F0029964.jpg&amp;rpt=simage" TargetMode="External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biodiversity.ru/programs/vyhuh/vyhuh-leaflet.doc" TargetMode="External"/><Relationship Id="rId2" Type="http://schemas.openxmlformats.org/officeDocument/2006/relationships/hyperlink" Target="http://www.biodiversity.ru/programs/vyhuh/vyhuh-leaflet.doc" TargetMode="External"/><Relationship Id="rId3" Type="http://schemas.openxmlformats.org/officeDocument/2006/relationships/hyperlink" Target="http://www.biodiversity.ru/programs/vyhuh/vyhuh-leaflet.doc" TargetMode="External"/><Relationship Id="rId4" Type="http://schemas.openxmlformats.org/officeDocument/2006/relationships/hyperlink" Target="http://www.biodiversity.ru/programs/vyhuh/vyhuh-leaflet.doc" TargetMode="External"/><Relationship Id="rId5" Type="http://schemas.openxmlformats.org/officeDocument/2006/relationships/hyperlink" Target="http://www.biodiversity.ru/programs/vyhuh/vyhuh-leaflet.doc" TargetMode="External"/><Relationship Id="rId6" Type="http://schemas.openxmlformats.org/officeDocument/2006/relationships/hyperlink" Target="http://www.biodiversity.ru/programs/vyhuh/vyhuh-leaflet.doc" TargetMode="External"/><Relationship Id="rId7" Type="http://schemas.openxmlformats.org/officeDocument/2006/relationships/hyperlink" Target="http://www.biodiversity.ru/programs/vyhuh/vyhuh-leaflet.doc" TargetMode="External"/><Relationship Id="rId8" Type="http://schemas.openxmlformats.org/officeDocument/2006/relationships/hyperlink" Target="http://www.biodiversity.ru/programs/vyhuh/vyhuh-leaflet.doc" TargetMode="External"/><Relationship Id="rId9" Type="http://schemas.openxmlformats.org/officeDocument/2006/relationships/hyperlink" Target="http://www.biodiversity.ru/programs/vyhuh/vyhuh-leaflet.doc" TargetMode="External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dendrology.ru/forest/item/f00/s00/e0000420/pic/000016.jpg&amp;imgrefurl=http://dendrology.ru/forest/item/f00/s00/e0000420/index.shtml&amp;usg=__JQZDpmstPh0XNN8pjBjA570_zu8=&amp;h=440&amp;w=550&amp;sz=83&amp;hl=ru&amp;start=61&amp;tbnid=UVqoZHSVlkEa6M:&amp;tbnh=106&amp;tbnw=133&amp;prev=/images%3Fq%3D%25D0%25B2%25D1%258B%25D1%2585%25D1%2583%25D1%2585%25D0%25BE%25D0%25BB%25D1%258C%26start%3D60%26ndsp%3D20%26hl%3Dru%26sa%3DN" TargetMode="External"/><Relationship Id="rId2" Type="http://schemas.openxmlformats.org/officeDocument/2006/relationships/image" Target="../media/image55.jpeg"/><Relationship Id="rId3" Type="http://schemas.openxmlformats.org/officeDocument/2006/relationships/hyperlink" Target="http://www.biodiversity.ru/programs/vyhuh/gallery/photoalbum.html" TargetMode="External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www.computerra.ru/upload/nasek/krot" TargetMode="External"/><Relationship Id="rId2" Type="http://schemas.openxmlformats.org/officeDocument/2006/relationships/image" Target="../media/image57.jpeg"/><Relationship Id="rId3" Type="http://schemas.openxmlformats.org/officeDocument/2006/relationships/hyperlink" Target="http://www.biodiversity.ru/programs/vyhuh/gallery/photoalbum.html" TargetMode="External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ohotniki.com/news/69.jpg&amp;imgrefurl=http://www.ohotniki.com/new/69.htm&amp;usg=__UdGmpP9AEssusF_lzICRG3Bq5Yg=&amp;h=320&amp;w=320&amp;sz=11&amp;hl=ru&amp;start=6&amp;tbnid=5q54W2MjF1TrgM:&amp;tbnh=118&amp;tbnw=118&amp;prev=/images%3Fq%3D%25D0%25B2%25D1%258B%25D1%2585%25D1%2583%25D1%2585%25D0%25BE%25D0%25BB%25D1%258C%26hl%3Dru%26sa%3D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google.com/imgres?imgurl=http://www.redbook.ru/foto_ch/vixuxol.jpg&amp;imgrefurl=http://www.redbook.ru/redbook141.html&amp;usg=__GScBaXYBMz0GxtmQoMsGfBiIZa4=&amp;h=218&amp;w=270&amp;sz=44&amp;hl=ru&amp;start=100&amp;tbnid=NuhsFkgt5Iv3WM:&amp;tbnh=91&amp;tbnw=113&amp;prev=/images%3Fq%3D%25D0%25B2%25D1%258B%25D1%2585%25D1%2583%25D1%2585%25D0%25BE%25D0%25BB%25D1%258C%26start%3D80%26ndsp%3D20%26hl%3Dru%26sa%3DN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55640" y="620640"/>
            <a:ext cx="7777080" cy="56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Verdana"/>
              </a:rPr>
              <a:t>По страницам</a:t>
            </a:r>
            <a:r>
              <a:rPr b="0" lang="ru-RU" sz="2000" spc="-1" strike="noStrike">
                <a:solidFill>
                  <a:srgbClr val="ccec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Verdana"/>
              </a:rPr>
              <a:t>                                                                                           </a:t>
            </a:r>
            <a:br>
              <a:rPr sz="4000"/>
            </a:br>
            <a:r>
              <a:rPr b="0" lang="ru-RU" sz="6000" spc="-1" strike="noStrike">
                <a:solidFill>
                  <a:srgbClr val="cc3300"/>
                </a:solidFill>
                <a:latin typeface="Verdana"/>
              </a:rPr>
              <a:t>КРАСНОЙ КНИГИ </a:t>
            </a:r>
            <a:br>
              <a:rPr sz="6000"/>
            </a:br>
            <a:r>
              <a:rPr b="0" lang="ru-RU" sz="6000" spc="-1" strike="noStrike">
                <a:solidFill>
                  <a:srgbClr val="cc3300"/>
                </a:solidFill>
                <a:latin typeface="Verdana"/>
              </a:rPr>
              <a:t>   РОССИ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Verdana"/>
              </a:rPr>
              <a:t>учитель начальных классов  Косьяненко Ольга Викторов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99"/>
                </a:solidFill>
                <a:latin typeface="Arial"/>
              </a:rPr>
              <a:t>Внешний вид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51280" y="1628640"/>
            <a:ext cx="529272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большое животное плотного сложения, весом около 500 г. и длиной тела около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0см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аликообразное тело покрыто густым волосяным покровом, на короткой и малоподвижной шеи сидит конусовидная голова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14880" r="0" b="8928"/>
          <a:stretch/>
        </p:blipFill>
        <p:spPr>
          <a:xfrm>
            <a:off x="250920" y="2133720"/>
            <a:ext cx="3397320" cy="39034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684360" y="90792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cff99"/>
                </a:solidFill>
                <a:uFillTx/>
                <a:latin typeface="Verdana"/>
              </a:rPr>
              <a:t>Русская выхухо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840"/>
                            </p:stCondLst>
                            <p:childTnLst>
                              <p:par>
                                <p:cTn id="1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569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канчивающаяся довольно длинным подвижным хоботком с парой крупных носовых отверстий на конце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187280" y="2222640"/>
            <a:ext cx="6769440" cy="4341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859280" y="692280"/>
            <a:ext cx="389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Лапки небольшие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images" descr="">
            <a:hlinkClick r:id="rId1"/>
          </p:cNvPr>
          <p:cNvPicPr/>
          <p:nvPr/>
        </p:nvPicPr>
        <p:blipFill>
          <a:blip r:embed="rId2"/>
          <a:srcRect l="0" t="0" r="28209" b="0"/>
          <a:stretch/>
        </p:blipFill>
        <p:spPr>
          <a:xfrm>
            <a:off x="5219640" y="3933720"/>
            <a:ext cx="2448000" cy="2214720"/>
          </a:xfrm>
          <a:prstGeom prst="rect">
            <a:avLst/>
          </a:prstGeom>
          <a:ln w="0">
            <a:noFill/>
          </a:ln>
        </p:spPr>
      </p:pic>
      <p:pic>
        <p:nvPicPr>
          <p:cNvPr id="179" name="images" descr=""/>
          <p:cNvPicPr/>
          <p:nvPr/>
        </p:nvPicPr>
        <p:blipFill>
          <a:blip r:embed="rId3"/>
          <a:stretch/>
        </p:blipFill>
        <p:spPr>
          <a:xfrm>
            <a:off x="395280" y="260280"/>
            <a:ext cx="3960720" cy="36925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79280" y="4437000"/>
            <a:ext cx="42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альцы соединены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лавательными перепонка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08360" y="5661000"/>
            <a:ext cx="1511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995280" y="1125360"/>
            <a:ext cx="1800360" cy="935280"/>
          </a:xfrm>
          <a:prstGeom prst="line">
            <a:avLst/>
          </a:prstGeom>
          <a:ln w="9360">
            <a:solidFill>
              <a:srgbClr val="00172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rcRect l="13378" t="0" r="13378" b="0"/>
          <a:stretch/>
        </p:blipFill>
        <p:spPr>
          <a:xfrm>
            <a:off x="5292720" y="1628640"/>
            <a:ext cx="3292560" cy="45370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rcRect l="0" t="14880" r="0" b="8928"/>
          <a:stretch/>
        </p:blipFill>
        <p:spPr>
          <a:xfrm>
            <a:off x="5292720" y="5445000"/>
            <a:ext cx="639720" cy="7351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292720" y="119700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м 20с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1640" y="49417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с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4427640" y="5516640"/>
            <a:ext cx="792000" cy="711000"/>
          </a:xfrm>
          <a:prstGeom prst="rect">
            <a:avLst/>
          </a:prstGeom>
          <a:ln w="0">
            <a:noFill/>
          </a:ln>
        </p:spPr>
      </p:pic>
      <p:pic>
        <p:nvPicPr>
          <p:cNvPr id="188" name="wyhuhol-plakat" descr=""/>
          <p:cNvPicPr/>
          <p:nvPr/>
        </p:nvPicPr>
        <p:blipFill>
          <a:blip r:embed="rId4"/>
          <a:srcRect l="78220" t="70596" r="3675" b="8088"/>
          <a:stretch/>
        </p:blipFill>
        <p:spPr>
          <a:xfrm>
            <a:off x="755640" y="2349360"/>
            <a:ext cx="2521080" cy="21178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39640" y="1628640"/>
            <a:ext cx="302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ыхухол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 плече у мужч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55640" y="40464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3b76"/>
                </a:solidFill>
                <a:uFillTx/>
                <a:latin typeface="Verdana"/>
              </a:rPr>
              <a:t>Длина тела  выхухо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8000"/>
                            </p:stCondLst>
                            <p:childTnLst>
                              <p:par>
                                <p:cTn id="24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Распространение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315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прошлом выхухоль была широко распространена в бассейнах рек Днепр, Волга, Урал, её ареал был сплошным и более широким, чем современный. В наши дни основная часть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популяции выхухоли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обитает в России — в основном в бассейнах рек Волги и Дона, в меньшей степени — в бассейнах рек Днепр, Урал, Уй и Тобол. Кроме России выхухоль обитает ещё в Казахстане, Украине и Белоруссии, но там её совсем немного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___________________________________________________________________________________________________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ПОПУЛЯЦИЯ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— совокупность особей одного вида, длительно занимающая определенное пространство и воспроизводящая себя в течение большого числа поколений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360"/>
                            </p:stCondLst>
                            <p:childTnLst>
                              <p:par>
                                <p:cTn id="2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9360"/>
                            </p:stCondLst>
                            <p:childTnLst>
                              <p:par>
                                <p:cTn id="2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8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map_hahin" descr=""/>
          <p:cNvPicPr/>
          <p:nvPr/>
        </p:nvPicPr>
        <p:blipFill>
          <a:blip r:embed="rId1"/>
          <a:stretch/>
        </p:blipFill>
        <p:spPr>
          <a:xfrm>
            <a:off x="1042920" y="-22320"/>
            <a:ext cx="7561440" cy="688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Arial"/>
              </a:rPr>
              <a:t>Образ жизни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ыхухоль ведёт полуводный образ жизни в поймах рек и по берегам озёр. Она может жить только в очень чистой воде, поэтому присутствие в водоёме этих зверьков служит индикатором его экологического благополучия. Выхухоль прекрасно плавает, при нырянии может задерживать дыхание на 5 минут. Убежищем зверьку служат норы, представляющие собой сложный лабиринт подземных туннелей диаметром 15-17 см, вход в который скрыт под водой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158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ris2-4" descr=""/>
          <p:cNvPicPr/>
          <p:nvPr/>
        </p:nvPicPr>
        <p:blipFill>
          <a:blip r:embed="rId1"/>
          <a:stretch/>
        </p:blipFill>
        <p:spPr>
          <a:xfrm>
            <a:off x="-2989440" y="0"/>
            <a:ext cx="12709800" cy="68515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-306360" y="-107280"/>
            <a:ext cx="58424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Типичные местообитания выхухо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780000" y="2924280"/>
            <a:ext cx="374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i-main-pic" descr="Картинка 18 из 365"/>
          <p:cNvPicPr/>
          <p:nvPr/>
        </p:nvPicPr>
        <p:blipFill>
          <a:blip r:embed="rId1"/>
          <a:stretch/>
        </p:blipFill>
        <p:spPr>
          <a:xfrm>
            <a:off x="0" y="-4608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202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835280" y="4005360"/>
            <a:ext cx="431640" cy="249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182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ris2-3" descr=""/>
          <p:cNvPicPr/>
          <p:nvPr/>
        </p:nvPicPr>
        <p:blipFill>
          <a:blip r:embed="rId1"/>
          <a:stretch/>
        </p:blipFill>
        <p:spPr>
          <a:xfrm>
            <a:off x="-252360" y="0"/>
            <a:ext cx="979308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65920" y="6247440"/>
            <a:ext cx="57859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i="1" lang="en-US" sz="2400" spc="-1" strike="noStrike">
                <a:solidFill>
                  <a:srgbClr val="000810"/>
                </a:solidFill>
                <a:latin typeface="Tahoma"/>
                <a:ea typeface="Times New Roman"/>
              </a:rPr>
              <a:t>Дорожки выхухоли по чистому ль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Цель: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знакомлени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с внешним видом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распространением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образом жизни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питанием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размножением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численностью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охрано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cff99"/>
                </a:solidFill>
                <a:uFillTx/>
                <a:latin typeface="Verdana"/>
              </a:rPr>
              <a:t>Русской выхухол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Arial"/>
              </a:rPr>
              <a:t>Питание.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Выхухоль практически всеядна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908000" y="2205000"/>
            <a:ext cx="5688360" cy="32418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68360" y="566100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Она охотно поедае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3120"/>
                            </p:stCondLst>
                            <p:childTnLst>
                              <p:par>
                                <p:cTn id="3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160"/>
                            </p:stCondLst>
                            <p:childTnLst>
                              <p:par>
                                <p:cTn id="3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3660"/>
                            </p:stCondLst>
                            <p:childTnLst>
                              <p:par>
                                <p:cTn id="3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пиявок,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1" name="i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3289320" cy="4365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 rot="770400">
            <a:off x="3995640" y="1628280"/>
            <a:ext cx="2808360" cy="2097360"/>
          </a:xfrm>
          <a:prstGeom prst="rect">
            <a:avLst/>
          </a:prstGeom>
          <a:ln w="0">
            <a:noFill/>
          </a:ln>
        </p:spPr>
      </p:pic>
      <p:pic>
        <p:nvPicPr>
          <p:cNvPr id="213" name="82" descr="Картинка 5 из 230"/>
          <p:cNvPicPr/>
          <p:nvPr/>
        </p:nvPicPr>
        <p:blipFill>
          <a:blip r:embed="rId3"/>
          <a:stretch/>
        </p:blipFill>
        <p:spPr>
          <a:xfrm rot="20307600">
            <a:off x="4643280" y="3644640"/>
            <a:ext cx="3905280" cy="2781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20"/>
                            </p:stCondLst>
                            <p:childTnLst>
                              <p:par>
                                <p:cTn id="3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320"/>
                            </p:stCondLst>
                            <p:childTnLst>
                              <p:par>
                                <p:cTn id="3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4320"/>
                            </p:stCondLst>
                            <p:childTnLst>
                              <p:par>
                                <p:cTn id="3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моллюсков,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101" descr="Картинка 6 из 365"/>
          <p:cNvPicPr/>
          <p:nvPr/>
        </p:nvPicPr>
        <p:blipFill>
          <a:blip r:embed="rId1"/>
          <a:stretch/>
        </p:blipFill>
        <p:spPr>
          <a:xfrm rot="20830800">
            <a:off x="250920" y="1699920"/>
            <a:ext cx="4714920" cy="2990880"/>
          </a:xfrm>
          <a:prstGeom prst="rect">
            <a:avLst/>
          </a:prstGeom>
          <a:ln w="0">
            <a:noFill/>
          </a:ln>
        </p:spPr>
      </p:pic>
      <p:pic>
        <p:nvPicPr>
          <p:cNvPr id="216" name="i" descr=""/>
          <p:cNvPicPr/>
          <p:nvPr/>
        </p:nvPicPr>
        <p:blipFill>
          <a:blip r:embed="rId2"/>
          <a:stretch/>
        </p:blipFill>
        <p:spPr>
          <a:xfrm flipH="1" rot="1039800">
            <a:off x="4680000" y="2852280"/>
            <a:ext cx="4464000" cy="33386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 rot="303000">
            <a:off x="4858920" y="1341360"/>
            <a:ext cx="2879640" cy="21495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 flipH="1" rot="20983800">
            <a:off x="2123640" y="4220640"/>
            <a:ext cx="2952720" cy="220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440"/>
                            </p:stCondLst>
                            <p:childTnLst>
                              <p:par>
                                <p:cTn id="3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440"/>
                            </p:stCondLst>
                            <p:childTnLst>
                              <p:par>
                                <p:cTn id="3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4440"/>
                            </p:stCondLst>
                            <p:childTnLst>
                              <p:par>
                                <p:cTn id="39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6440"/>
                            </p:stCondLst>
                            <p:childTnLst>
                              <p:par>
                                <p:cTn id="3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насекомых,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 rot="1933200">
            <a:off x="4716360" y="259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7596360" y="5734080"/>
            <a:ext cx="688680" cy="6890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3203640" y="1916280"/>
            <a:ext cx="3024000" cy="25794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 rot="4563000">
            <a:off x="178560" y="98064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5"/>
          <a:stretch/>
        </p:blipFill>
        <p:spPr>
          <a:xfrm flipH="1" rot="20599800">
            <a:off x="6948000" y="580500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6"/>
          <a:stretch/>
        </p:blipFill>
        <p:spPr>
          <a:xfrm rot="4563000">
            <a:off x="639360" y="5972040"/>
            <a:ext cx="692280" cy="6922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7"/>
          <a:stretch/>
        </p:blipFill>
        <p:spPr>
          <a:xfrm rot="829200">
            <a:off x="1402920" y="1412640"/>
            <a:ext cx="2005200" cy="2232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8"/>
          <a:stretch/>
        </p:blipFill>
        <p:spPr>
          <a:xfrm rot="20291400">
            <a:off x="6372000" y="1915920"/>
            <a:ext cx="2070000" cy="23032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9"/>
          <a:stretch/>
        </p:blipFill>
        <p:spPr>
          <a:xfrm>
            <a:off x="3132000" y="4465800"/>
            <a:ext cx="3205440" cy="23922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0"/>
          <a:stretch/>
        </p:blipFill>
        <p:spPr>
          <a:xfrm rot="1293600">
            <a:off x="539280" y="3499920"/>
            <a:ext cx="2232000" cy="212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440"/>
                            </p:stCondLst>
                            <p:childTnLst>
                              <p:par>
                                <p:cTn id="4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3440"/>
                            </p:stCondLst>
                            <p:childTnLst>
                              <p:par>
                                <p:cTn id="4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3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12 0.00416 C 0.09688 -0.03516 0.20087 -0.07449 0.17118 -0.12746 C 0.1415 -0.18043 -0.18698 -0.24335 -0.18541 -0.31367 C -0.18385 -0.38399 0.16615 -0.49156 0.1809 -0.54962 C 0.19566 -0.60768 -0.04861 -0.64215 -0.09635 -0.66204 C -0.1441 -0.68194 -0.125 -0.67523 -0.1059 -0.66852 E">
                                      <p:cBhvr>
                                        <p:cTn id="435" dur="5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844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440"/>
                            </p:stCondLst>
                            <p:childTnLst>
                              <p:par>
                                <p:cTn id="4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 -0.02532 0.007 -0.0493 0.015 -0.0493 C 0.024 -0.0493 0.027 -0.02532 0.03 0 C 0.034 0.02798 0.037 0.05596 0.047 0.05596 C 0.056 0.05596 0.059 0.02798 0.063 0 C 0.065 -0.02532 0.069 -0.0493 0.078 -0.0493 C 0.086 -0.0493 0.09 -0.02532 0.093 0 C 0.096 0.02798 0.1 0.05596 0.109 0.05596 C 0.118 0.05596 0.125 0 0.125 0 C 0.128 -0.02532 0.131 -0.0493 0.14 -0.0493 C 0.149 -0.0493 0.152 -0.02532 0.155 0 C 0.159 0.02798 0.162 0.05596 0.172 0.05596 C 0.181 0.05596 0.184 0.02798 0.187 0 C 0.191 -0.02532 0.194 -0.0493 0.203 -0.0493 C 0.211 -0.0493 0.215 -0.02532 0.218 0 C 0.221 0.02798 0.225 0.05596 0.234 0.05596 C 0.243 0.05596 0.246 0.02798 0.25 0 E">
                                      <p:cBhvr>
                                        <p:cTn id="448" dur="5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5440"/>
                            </p:stCondLst>
                            <p:childTnLst>
                              <p:par>
                                <p:cTn id="4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2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дождевых червей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 rot="798000">
            <a:off x="6227280" y="2349360"/>
            <a:ext cx="2376720" cy="18608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4211640" y="155736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мелких рыбёшек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55640" y="422100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а также различные растительные кор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8244000" y="6093000"/>
            <a:ext cx="295200" cy="495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8317080" y="6453360"/>
            <a:ext cx="495000" cy="2952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 rot="17112000">
            <a:off x="7985160" y="6281280"/>
            <a:ext cx="295200" cy="4953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5"/>
          <a:stretch/>
        </p:blipFill>
        <p:spPr>
          <a:xfrm rot="2088600">
            <a:off x="8459640" y="6093000"/>
            <a:ext cx="295560" cy="4950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6"/>
          <a:stretch/>
        </p:blipFill>
        <p:spPr>
          <a:xfrm rot="19907400">
            <a:off x="8027640" y="6021360"/>
            <a:ext cx="295200" cy="4953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7"/>
          <a:stretch/>
        </p:blipFill>
        <p:spPr>
          <a:xfrm>
            <a:off x="468360" y="522936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8"/>
          <a:stretch/>
        </p:blipFill>
        <p:spPr>
          <a:xfrm>
            <a:off x="3492360" y="494028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9"/>
          <a:stretch/>
        </p:blipFill>
        <p:spPr>
          <a:xfrm rot="20567400">
            <a:off x="3924360" y="2492280"/>
            <a:ext cx="1944720" cy="14065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valisn_gigant" descr=""/>
          <p:cNvPicPr/>
          <p:nvPr/>
        </p:nvPicPr>
        <p:blipFill>
          <a:blip r:embed="rId10"/>
          <a:stretch/>
        </p:blipFill>
        <p:spPr>
          <a:xfrm rot="20441400">
            <a:off x="2268000" y="5084280"/>
            <a:ext cx="1179720" cy="15717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bakopa_karol" descr=""/>
          <p:cNvPicPr/>
          <p:nvPr/>
        </p:nvPicPr>
        <p:blipFill>
          <a:blip r:embed="rId11"/>
          <a:stretch/>
        </p:blipFill>
        <p:spPr>
          <a:xfrm rot="728400">
            <a:off x="5148360" y="5084640"/>
            <a:ext cx="1189080" cy="1584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800" y="41518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520960" y="1989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2"/>
          <a:stretch/>
        </p:blipFill>
        <p:spPr>
          <a:xfrm>
            <a:off x="1476360" y="1341360"/>
            <a:ext cx="2376360" cy="17748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13"/>
          <a:stretch/>
        </p:blipFill>
        <p:spPr>
          <a:xfrm>
            <a:off x="-396720" y="1341360"/>
            <a:ext cx="2376360" cy="177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640"/>
                            </p:stCondLst>
                            <p:childTnLst>
                              <p:par>
                                <p:cTn id="4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140"/>
                            </p:stCondLst>
                            <p:childTnLst>
                              <p:par>
                                <p:cTn id="4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8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740"/>
                            </p:stCondLst>
                            <p:childTnLst>
                              <p:par>
                                <p:cTn id="4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3740"/>
                            </p:stCondLst>
                            <p:childTnLst>
                              <p:par>
                                <p:cTn id="48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2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740"/>
                            </p:stCondLst>
                            <p:childTnLst>
                              <p:par>
                                <p:cTn id="4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71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7600"/>
                            </p:stCondLst>
                            <p:childTnLst>
                              <p:par>
                                <p:cTn id="4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ff"/>
                </a:solidFill>
                <a:latin typeface="Arial"/>
              </a:rPr>
              <a:t>Размножение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о взрослой части популяции самцы и самки представлены примерно поровну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3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2852640"/>
            <a:ext cx="5256360" cy="3478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8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4560"/>
                            </p:stCondLst>
                            <p:childTnLst>
                              <p:par>
                                <p:cTn id="5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4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емейная группировка русской выхухоли состоит из взрослых самца и самки и молодых, число которых может быть от одного до пяти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Размножается русская выхухоль, как правило, один раз в год. Чётких сроков размножения нет (беременных самок можно обнаружить в течение всего года). Естественная продолжительность жизни выхухоли - около 5 лет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8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4320"/>
                            </p:stCondLst>
                            <p:childTnLst>
                              <p:par>
                                <p:cTn id="5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8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99ff66"/>
                </a:solidFill>
                <a:latin typeface="Arial"/>
              </a:rPr>
              <a:t>Численность.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915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прет на добычу привёл к росту численности выхухоли, достигшей на территории России 69 тыс. особей в начале </a:t>
            </a:r>
            <a:r>
              <a:rPr b="0" lang="ru-RU" sz="2800" spc="-1" strike="noStrike">
                <a:solidFill>
                  <a:srgbClr val="000810"/>
                </a:solidFill>
                <a:latin typeface="Verdana"/>
              </a:rPr>
              <a:t>1970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ода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днако затем численность зверьков снова стала неуклонно снижаться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</a:t>
            </a:r>
            <a:r>
              <a:rPr b="0" lang="ru-RU" sz="2800" spc="-1" strike="noStrike">
                <a:solidFill>
                  <a:srgbClr val="000810"/>
                </a:solidFill>
                <a:latin typeface="Verdana"/>
              </a:rPr>
              <a:t>1985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году их было 39 тысяч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</a:t>
            </a:r>
            <a:r>
              <a:rPr b="0" lang="ru-RU" sz="2800" spc="-1" strike="noStrike">
                <a:solidFill>
                  <a:srgbClr val="000810"/>
                </a:solidFill>
                <a:latin typeface="Verdana"/>
              </a:rPr>
              <a:t>2001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году — 28 тысяч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 в </a:t>
            </a:r>
            <a:r>
              <a:rPr b="0" lang="ru-RU" sz="2800" spc="-1" strike="noStrike">
                <a:solidFill>
                  <a:srgbClr val="000810"/>
                </a:solidFill>
                <a:latin typeface="Verdana"/>
              </a:rPr>
              <a:t>2005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году — только 25 тысяч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месте с численностью сокращалась и область распространения вида. Многие водоёмы, ранее заселённые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ыхухолями, опустели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300"/>
                            </p:stCondLst>
                            <p:childTnLst>
                              <p:par>
                                <p:cTn id="5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8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6380"/>
                            </p:stCondLst>
                            <p:childTnLst>
                              <p:par>
                                <p:cTn id="5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8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8780"/>
                            </p:stCondLst>
                            <p:childTnLst>
                              <p:par>
                                <p:cTn id="5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8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9740"/>
                            </p:stCondLst>
                            <p:childTnLst>
                              <p:par>
                                <p:cTn id="5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8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500"/>
                            </p:stCondLst>
                            <p:childTnLst>
                              <p:par>
                                <p:cTn id="5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8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1540"/>
                            </p:stCondLst>
                            <p:childTnLst>
                              <p:par>
                                <p:cTn id="5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8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виду резкого сокращения численности этот вид занесён в </a:t>
            </a:r>
            <a:r>
              <a:rPr b="1" lang="ru-RU" sz="3200" spc="-1" strike="noStrike">
                <a:solidFill>
                  <a:srgbClr val="cc3300"/>
                </a:solidFill>
                <a:latin typeface="Verdana"/>
              </a:rPr>
              <a:t>Красную книгу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Verdana"/>
              </a:rPr>
              <a:t>Российской Федерации,</a:t>
            </a:r>
            <a:r>
              <a:rPr b="0" lang="ru-RU" sz="3200" spc="-1" strike="noStrike">
                <a:solidFill>
                  <a:srgbClr val="cc33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акже в</a:t>
            </a:r>
            <a:r>
              <a:rPr b="0" lang="ru-RU" sz="3200" spc="-1" strike="noStrike">
                <a:solidFill>
                  <a:srgbClr val="cc33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Verdana"/>
              </a:rPr>
              <a:t>Красный список МСОП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_______________________________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Verdana"/>
              </a:rPr>
              <a:t>МСОП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– международный союз охраны природ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56840" y="691920"/>
            <a:ext cx="843588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кращение численности выхухоли связано с воздействием разнообразных 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антропогенных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факторов. Если в 1970-1980-е годы главными из них были загрязнение и хозяйственное освоение речных пойм и водоёмов, то сегодня едва ли не наиболее значимая причина — массовое незаконное использование ставных лесочных сетей и электроудочек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_____________________________________________________________________________________________________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АНТРОПОГЕННОЕ ВОЗДЕЙСТВИЕ на природу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- различные формы влияния деятельности человека на природу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3" dur="8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1280"/>
                            </p:stCondLst>
                            <p:childTnLst>
                              <p:par>
                                <p:cTn id="6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8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5360"/>
                            </p:stCondLst>
                            <p:childTnLst>
                              <p:par>
                                <p:cTn id="6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8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емы сообщен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истематика и внешний вид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спространение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браз жизн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итание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змножение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облема резкого снижения численност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 нужно сделать и что уже делается для того, чтобы сохранить выхухоль в природе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6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arial-of-desmana_map" descr=""/>
          <p:cNvPicPr/>
          <p:nvPr/>
        </p:nvPicPr>
        <p:blipFill>
          <a:blip r:embed="rId1"/>
          <a:stretch/>
        </p:blipFill>
        <p:spPr>
          <a:xfrm>
            <a:off x="-108000" y="372960"/>
            <a:ext cx="9433080" cy="582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Охра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1957 году в России на добычу выхухоли ввели полный запрет, действующий до сих пор. Русская выхухоль охраняется в Воронежском, Воронинском, Керженском, Мордовском, Окском, Хопёрском заповедниках и примерно в 80 заказниках в России, а также в Луганском заповеднике Украин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500"/>
                            </p:stCondLst>
                            <p:childTnLst>
                              <p:par>
                                <p:cTn id="6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8" dur="8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9" dur="8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0" dur="8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Verdana"/>
              </a:rPr>
              <a:t>Всероссийская конференция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Verdana"/>
              </a:rPr>
              <a:t>"Хищническая эксплуатац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66ccff"/>
                </a:solidFill>
                <a:latin typeface="Verdana"/>
              </a:rPr>
              <a:t>диких животных России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66ccff"/>
                </a:solidFill>
                <a:latin typeface="Verdana"/>
              </a:rPr>
              <a:t>проблемы и решения"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О сохранении русской выхухоли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г. Королев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Московская область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3-4 июня 2005 г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4" name="i" descr="">
            <a:hlinkClick r:id="rId1"/>
          </p:cNvPr>
          <p:cNvPicPr/>
          <p:nvPr/>
        </p:nvPicPr>
        <p:blipFill>
          <a:blip r:embed="rId2"/>
          <a:srcRect l="42399" t="0" r="0" b="0"/>
          <a:stretch/>
        </p:blipFill>
        <p:spPr>
          <a:xfrm>
            <a:off x="6372360" y="4437000"/>
            <a:ext cx="1743120" cy="1654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2000"/>
                            </p:stCondLst>
                            <p:childTnLst>
                              <p:par>
                                <p:cTn id="6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4000"/>
                            </p:stCondLst>
                            <p:childTnLst>
                              <p:par>
                                <p:cTn id="6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6000"/>
                            </p:stCondLst>
                            <p:childTnLst>
                              <p:par>
                                <p:cTn id="6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20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8000"/>
                            </p:stCondLst>
                            <p:childTnLst>
                              <p:par>
                                <p:cTn id="6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2" dur="2000" fill="hold"/>
                                        <p:tgtEl>
                                          <p:spTgt spid="2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3000"/>
                            </p:stCondLst>
                            <p:childTnLst>
                              <p:par>
                                <p:cTn id="6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6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7000"/>
                            </p:stCondLst>
                            <p:childTnLst>
                              <p:par>
                                <p:cTn id="6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Для сохранения русской выхухоли необходимо участие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инистерства природных ресурсов РФ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инистерства  сельского хозяйства РФ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инистерства внутренних дел РФ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Генеральной прокуратура РФ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95280" y="476280"/>
            <a:ext cx="82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убъектов Российской Федерации 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ределах  ареала   выхухо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Органы местного самоуправления и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общественные  организации в пределах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ареала выхухо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Министерства экономического развит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и  торговли Р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Министерства культуры и массовы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коммуникаций Р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0" y="98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wyhuhol-plakat" descr=""/>
          <p:cNvPicPr/>
          <p:nvPr/>
        </p:nvPicPr>
        <p:blipFill>
          <a:blip r:embed="rId1"/>
          <a:srcRect l="0" t="0" r="0" b="7353"/>
          <a:stretch/>
        </p:blipFill>
        <p:spPr>
          <a:xfrm>
            <a:off x="-108000" y="981000"/>
            <a:ext cx="9252000" cy="68407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0" y="0"/>
            <a:ext cx="92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ЦЕНТР  ОХРАНЫ ДИКОЙ ПРИРОДЫ – природоохранная организация, реализующая программу по сохранению русской выхухоли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1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Можем ли мы помочь в решении этой проблемы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352680" y="2590920"/>
            <a:ext cx="2076480" cy="25495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 rot="20560800">
            <a:off x="990720" y="213372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66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1687800">
            <a:off x="6476400" y="1980720"/>
            <a:ext cx="1904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736800">
            <a:off x="3733560" y="5546520"/>
            <a:ext cx="1904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19461000">
            <a:off x="7010640" y="42667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2239800">
            <a:off x="1142280" y="441936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d60093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0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2000"/>
                            </p:stCondLst>
                            <p:childTnLst>
                              <p:par>
                                <p:cTn id="6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9000"/>
                            </p:stCondLst>
                            <p:childTnLst>
                              <p:par>
                                <p:cTn id="7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8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8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8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8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7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3000"/>
                            </p:stCondLst>
                            <p:childTnLst>
                              <p:par>
                                <p:cTn id="72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77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0" dur="770" fill="hold"/>
                                        <p:tgtEl>
                                          <p:spTgt spid="2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2" dur="77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4" dur="77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675640" cy="56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Друзья!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нтр охраны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кой природы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ит вас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ключиться к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ию этого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никального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еря. Помощь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ого из вас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обходим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4752720" cy="4308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5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000"/>
                            </p:stCondLst>
                            <p:childTnLst>
                              <p:par>
                                <p:cTn id="7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9" dur="8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0" dur="8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1" dur="8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2480"/>
                            </p:stCondLst>
                            <p:childTnLst>
                              <p:par>
                                <p:cTn id="7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5" dur="8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6" dur="8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7" dur="8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3000"/>
                            </p:stCondLst>
                            <p:childTnLst>
                              <p:par>
                                <p:cTn id="7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1" dur="8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2" dur="8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3" dur="8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3400"/>
                            </p:stCondLst>
                            <p:childTnLst>
                              <p:par>
                                <p:cTn id="7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7" dur="8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8" dur="8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9" dur="8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3960"/>
                            </p:stCondLst>
                            <p:childTnLst>
                              <p:par>
                                <p:cTn id="7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3" dur="8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4" dur="8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5" dur="8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4520"/>
                            </p:stCondLst>
                            <p:childTnLst>
                              <p:par>
                                <p:cTn id="7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dur="8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5000"/>
                            </p:stCondLst>
                            <p:childTnLst>
                              <p:par>
                                <p:cTn id="7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5" dur="80"/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6" dur="80"/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7" dur="80"/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520"/>
                            </p:stCondLst>
                            <p:childTnLst>
                              <p:par>
                                <p:cTn id="7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6040"/>
                            </p:stCondLst>
                            <p:childTnLst>
                              <p:par>
                                <p:cTn id="7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7" dur="80"/>
                                        <p:tgtEl>
                                          <p:spTgt spid="2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8" dur="80"/>
                                        <p:tgtEl>
                                          <p:spTgt spid="2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9" dur="80"/>
                                        <p:tgtEl>
                                          <p:spTgt spid="2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Verdana"/>
              </a:rPr>
              <a:t>что 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8000" spc="-1" strike="noStrike">
                <a:solidFill>
                  <a:srgbClr val="cc3300"/>
                </a:solidFill>
                <a:latin typeface="Verdana"/>
              </a:rPr>
              <a:t>вы</a:t>
            </a:r>
            <a:r>
              <a:rPr b="0" lang="en-US" sz="80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8000" spc="-1" strike="noStrike">
                <a:solidFill>
                  <a:srgbClr val="ffffff"/>
                </a:solidFill>
                <a:latin typeface="Verdana"/>
              </a:rPr>
              <a:t>можете    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en-US" sz="8000" spc="-1" strike="noStrike">
                <a:solidFill>
                  <a:srgbClr val="ffffff"/>
                </a:solidFill>
                <a:latin typeface="Verdana"/>
              </a:rPr>
              <a:t>сделать: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0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1000"/>
                            </p:stCondLst>
                            <p:childTnLst>
                              <p:par>
                                <p:cTn id="8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2000"/>
                            </p:stCondLst>
                            <p:childTnLst>
                              <p:par>
                                <p:cTn id="8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3000"/>
                            </p:stCondLst>
                            <p:childTnLst>
                              <p:par>
                                <p:cTn id="8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. Распечатайте эти листовки и разместите их на досках объявлений в местах, активно посещаемых людьми. Листовку можно распечатать с сайта ЦОДП: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://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www.biodiversity.ru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/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programs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/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vyhuh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Verdana"/>
                <a:hlinkClick r:id="rId8"/>
              </a:rPr>
              <a:t>/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Verdana"/>
                <a:hlinkClick r:id="rId9"/>
              </a:rPr>
              <a:t>vyhuh-leaflet.doc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 Убеждайте своих друзей и знакомых не использовать и не продавать лесочные сети и электролов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 Рассказывайте детям о выхухоли и проблеме ее исчезновения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0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5" dur="8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6" dur="8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7" dur="8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7320"/>
                            </p:stCondLst>
                            <p:childTnLst>
                              <p:par>
                                <p:cTn id="8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1" dur="8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2" dur="8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3" dur="8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0640"/>
                            </p:stCondLst>
                            <p:childTnLst>
                              <p:par>
                                <p:cTn id="8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7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8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9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4360" y="692280"/>
            <a:ext cx="7775280" cy="45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Много есть зверей на свете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сех их очень любят дет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Но проблема есть одна –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счезают иногда звери эт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НАВСЕГДА!!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8000"/>
                            </p:stCondLst>
                            <p:childTnLst>
                              <p:par>
                                <p:cTn id="5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-27000" y="-1251000"/>
            <a:ext cx="9193320" cy="943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0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6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wyhuhol-plakat" descr=""/>
          <p:cNvPicPr/>
          <p:nvPr/>
        </p:nvPicPr>
        <p:blipFill>
          <a:blip r:embed="rId1"/>
          <a:srcRect l="78220" t="18382" r="2625" b="63243"/>
          <a:stretch/>
        </p:blipFill>
        <p:spPr>
          <a:xfrm>
            <a:off x="250920" y="3213000"/>
            <a:ext cx="3816360" cy="26164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11640" cy="32749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3987720" y="2144880"/>
            <a:ext cx="5156280" cy="4713120"/>
          </a:xfrm>
          <a:prstGeom prst="rect">
            <a:avLst/>
          </a:prstGeom>
          <a:ln w="0">
            <a:noFill/>
          </a:ln>
        </p:spPr>
      </p:pic>
      <p:pic>
        <p:nvPicPr>
          <p:cNvPr id="285" name="ris2-2" descr="Русская выхухоль"/>
          <p:cNvPicPr/>
          <p:nvPr/>
        </p:nvPicPr>
        <p:blipFill>
          <a:blip r:embed="rId4"/>
          <a:stretch/>
        </p:blipFill>
        <p:spPr>
          <a:xfrm>
            <a:off x="5292720" y="0"/>
            <a:ext cx="2610000" cy="302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0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3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7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4000"/>
                            </p:stCondLst>
                            <p:childTnLst>
                              <p:par>
                                <p:cTn id="8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1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6000"/>
                            </p:stCondLst>
                            <p:childTnLst>
                              <p:par>
                                <p:cTn id="8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869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0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2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914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0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 каком заповеднике охраняют выхухолей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раг выхухоле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Из-за чего истребляют выхухолей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Чем служит нора для выхухолей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Им заканчивается морда выхухол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емейство, к которому относится выхухоль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браз жизн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0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0"/>
            <a:ext cx="2195640" cy="1749600"/>
          </a:xfrm>
          <a:prstGeom prst="rect">
            <a:avLst/>
          </a:prstGeom>
          <a:ln w="0">
            <a:noFill/>
          </a:ln>
        </p:spPr>
      </p:pic>
      <p:pic>
        <p:nvPicPr>
          <p:cNvPr id="291" name="11_m" descr="">
            <a:hlinkClick r:id="rId3"/>
          </p:cNvPr>
          <p:cNvPicPr/>
          <p:nvPr/>
        </p:nvPicPr>
        <p:blipFill>
          <a:blip r:embed="rId4"/>
          <a:srcRect l="0" t="0" r="48200" b="0"/>
          <a:stretch/>
        </p:blipFill>
        <p:spPr>
          <a:xfrm>
            <a:off x="7581960" y="4869000"/>
            <a:ext cx="1562040" cy="1989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1000"/>
                            </p:stCondLst>
                            <p:childTnLst>
                              <p:par>
                                <p:cTn id="8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3000"/>
                            </p:stCondLst>
                            <p:childTnLst>
                              <p:par>
                                <p:cTn id="8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2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2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2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2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20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2000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2000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971640" y="1484280"/>
          <a:ext cx="7772400" cy="453060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3960"/>
                <a:gridCol w="46044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</a:tblGrid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5e"/>
                        </a:gs>
                        <a:gs pos="50000">
                          <a:srgbClr val="0000cc"/>
                        </a:gs>
                        <a:gs pos="100000">
                          <a:srgbClr val="0000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5e"/>
                        </a:gs>
                        <a:gs pos="50000">
                          <a:srgbClr val="0000cc"/>
                        </a:gs>
                        <a:gs pos="100000">
                          <a:srgbClr val="0000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5e"/>
                        </a:gs>
                        <a:gs pos="50000">
                          <a:srgbClr val="0000cc"/>
                        </a:gs>
                        <a:gs pos="100000">
                          <a:srgbClr val="0000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5e"/>
                        </a:gs>
                        <a:gs pos="50000">
                          <a:srgbClr val="0000cc"/>
                        </a:gs>
                        <a:gs pos="100000">
                          <a:srgbClr val="0000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щ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5e"/>
                        </a:gs>
                        <a:gs pos="50000">
                          <a:srgbClr val="0000cc"/>
                        </a:gs>
                        <a:gs pos="100000">
                          <a:srgbClr val="0000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5e"/>
                        </a:gs>
                        <a:gs pos="50000">
                          <a:srgbClr val="0000cc"/>
                        </a:gs>
                        <a:gs pos="100000">
                          <a:srgbClr val="0000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5e"/>
                        </a:gs>
                        <a:gs pos="50000">
                          <a:srgbClr val="0000cc"/>
                        </a:gs>
                        <a:gs pos="100000">
                          <a:srgbClr val="0000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5e"/>
                        </a:gs>
                        <a:gs pos="50000">
                          <a:srgbClr val="0000cc"/>
                        </a:gs>
                        <a:gs pos="100000">
                          <a:srgbClr val="0000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pic>
        <p:nvPicPr>
          <p:cNvPr id="294" name="images" descr="Просмотреть картинку полностью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3357720"/>
            <a:ext cx="1729080" cy="1520640"/>
          </a:xfrm>
          <a:prstGeom prst="rect">
            <a:avLst/>
          </a:prstGeom>
          <a:ln w="0">
            <a:noFill/>
          </a:ln>
        </p:spPr>
      </p:pic>
      <p:pic>
        <p:nvPicPr>
          <p:cNvPr id="295" name="11_m" descr="">
            <a:hlinkClick r:id="rId3"/>
          </p:cNvPr>
          <p:cNvPicPr/>
          <p:nvPr/>
        </p:nvPicPr>
        <p:blipFill>
          <a:blip r:embed="rId4"/>
          <a:srcRect l="0" t="0" r="36862" b="0"/>
          <a:stretch/>
        </p:blipFill>
        <p:spPr>
          <a:xfrm>
            <a:off x="971640" y="2924280"/>
            <a:ext cx="1447560" cy="15127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8397360" y="3357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2000"/>
                            </p:stCondLst>
                            <p:childTnLst>
                              <p:par>
                                <p:cTn id="9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1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4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Используемые источники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http://www.biodiversity.ru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/ programs/ vyhuh/proj05-06/action.html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Хахин Г.В. Русская выхухоль // Красная книга Российской Федерации (животные). М., 2001. С. 603-605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сновский И.П. редкие и исчезающие животные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//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По страницам Красной книги. М., «Металлургия»,1987.С.27-31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родно-Заповедный фонд - бесценное наследие Рязанщины: Материалы международной конференции. Рязань: Изд-во Рязанского гос. Университета им. С. А. Есенина, 2007г. С. 103-107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704000" cy="698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Одним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из исчезающих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видов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                  </a:t>
            </a: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животных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является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95280" y="620640"/>
            <a:ext cx="849780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Impact"/>
              </a:rPr>
              <a:t>ВЫХУХОЛЬ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Impact"/>
              <a:ea typeface="Impact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987640" y="3068640"/>
            <a:ext cx="3333960" cy="311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хухоль. Хохуля! Слово-то какое ласковое, услышишь его и невольно улыбнешься по-доброму, по-хорошему. Хохулей называют в народе русскую выхухоль, удивительного зверька, который появился на свете ни много ни мало – около 5 миллионов лет назад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images" descr="">
            <a:hlinkClick r:id="rId1"/>
          </p:cNvPr>
          <p:cNvPicPr/>
          <p:nvPr/>
        </p:nvPicPr>
        <p:blipFill>
          <a:blip r:embed="rId2"/>
          <a:srcRect l="9609" t="19218" r="19218" b="19218"/>
          <a:stretch/>
        </p:blipFill>
        <p:spPr>
          <a:xfrm>
            <a:off x="5724360" y="4581360"/>
            <a:ext cx="2400480" cy="2076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8440"/>
                            </p:stCondLst>
                            <p:childTnLst>
                              <p:par>
                                <p:cTn id="1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 стародавние времена, когда по Земле ходили мохнатые мамонты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6098" t="18258" r="6098" b="23736"/>
          <a:stretch/>
        </p:blipFill>
        <p:spPr>
          <a:xfrm>
            <a:off x="1547640" y="1557360"/>
            <a:ext cx="5608800" cy="4127400"/>
          </a:xfrm>
          <a:prstGeom prst="rect">
            <a:avLst/>
          </a:prstGeom>
          <a:ln w="0">
            <a:noFill/>
          </a:ln>
        </p:spPr>
      </p:pic>
      <p:pic>
        <p:nvPicPr>
          <p:cNvPr id="167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948360" y="5516640"/>
            <a:ext cx="142920" cy="114120"/>
          </a:xfrm>
          <a:prstGeom prst="rect">
            <a:avLst/>
          </a:prstGeom>
          <a:ln w="50760">
            <a:solidFill>
              <a:srgbClr val="ff0000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468360" y="566100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 водоёмах почти по всей территории нынешней Европы жила выхухо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200"/>
                            </p:stCondLst>
                            <p:childTnLst>
                              <p:par>
                                <p:cTn id="1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200"/>
                            </p:stCondLst>
                            <p:childTnLst>
                              <p:par>
                                <p:cTn id="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6520"/>
                            </p:stCondLst>
                            <p:childTnLst>
                              <p:par>
                                <p:cTn id="1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08000" y="259920"/>
            <a:ext cx="8569440" cy="54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ремя шло, мамонты исчезли с лица Земли… А вот выхухоль осталась до наших дней. И мало того, благодаря стабильности условий ее обитания, с тех пор она практически не изменилась. Консервативный реликт,  или проще: живое ископаемое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от только  распространение её с тех давних времён резко уменьшилось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images" descr=""/>
          <p:cNvPicPr/>
          <p:nvPr/>
        </p:nvPicPr>
        <p:blipFill>
          <a:blip r:embed="rId1"/>
          <a:stretch/>
        </p:blipFill>
        <p:spPr>
          <a:xfrm>
            <a:off x="7502400" y="4492800"/>
            <a:ext cx="1641600" cy="2365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7840"/>
                            </p:stCondLst>
                            <p:childTnLst>
                              <p:par>
                                <p:cTn id="1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240"/>
                            </p:stCondLst>
                            <p:childTnLst>
                              <p:par>
                                <p:cTn id="1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11:08:05Z</dcterms:created>
  <dc:creator>User</dc:creator>
  <dc:description/>
  <dc:language>en-US</dc:language>
  <cp:lastModifiedBy>Алексей Новоселов</cp:lastModifiedBy>
  <dcterms:modified xsi:type="dcterms:W3CDTF">2009-07-09T17:02:32Z</dcterms:modified>
  <cp:revision>27</cp:revision>
  <dc:subject/>
  <dc:title>Слайд 1</dc:title>
</cp:coreProperties>
</file>